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E8B-6766-4DB9-8F45-50090F7F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00E-E03B-4711-BA03-53710382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1A1-947B-4494-B3D8-CBD67E7E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5D5-3B4B-4281-8274-44CD303D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1680-307B-45F8-BC5A-1894CAC3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EBE8-5847-4AB7-B26D-7E7672D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085E-5A54-4788-BEA5-F9C6C0DD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E16C-2741-48D0-8F69-001997E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4C9D-02A1-4E23-A83C-CC7F3B4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1977-6591-45F4-9481-AEEF04D4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7AD8-FA61-4015-A722-D7B19EF6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0E1-98E3-4AF0-A7BC-1655E176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60EB-BE1E-4E11-8FB9-14117DD0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FF49-568A-4B3F-A29A-E89DDF3A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0CF0-3559-45BB-8DBD-07CDE968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B35B-6E27-47B7-AF44-CC02C347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2947-2304-4576-ABAF-21A600C0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918-E816-4B7A-B9C4-1E1EE58B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958-3529-46B0-B726-39D3C35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751-62C7-4F42-A5C2-A9BED12C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318-F000-4F52-B92F-48CDA88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CE4-7DD9-4F07-822E-530C6B9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8D1-3CB1-418A-87D5-E746BE1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89A-1418-49B0-869B-4CDB0899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2D5-89DB-4FD6-B1C7-EC311048213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B8FE-1334-4F3A-B0B1-73A524216C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chs08.edublogs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chs08.edublogs.org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tdudrchs.blogspot.com/" TargetMode="External"/><Relationship Id="rId2" Type="http://schemas.openxmlformats.org/officeDocument/2006/relationships/hyperlink" Target="http://rchs08.edublogs.org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mazon.com/gp/reader/1412959721/ref=sib_dp_pt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52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ers of the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2438280"/>
            <a:ext cx="38102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 to new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 their personal skill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81024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1866960" cy="1847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42400" y="632448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ch classroom best matches these ski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we teach these skill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52480" y="2361960"/>
            <a:ext cx="6778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uthentic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to a large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lf-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lf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Monitor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ulture of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summarize the importance of self-direction for 21st century learn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o partner B a reason students need self –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with another reason students need self-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 of the roo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8954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 what they are, but not how to use them in my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used them in my class, but would like more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 = Web L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updateable website where you can publish ins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is not just for reading anymore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Look!: 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http://rchs08.edublog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Diagram 3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34200" cy="4495680"/>
          </a:xfrm>
          <a:prstGeom prst="rect">
            <a:avLst/>
          </a:prstGeom>
          <a:ln w="0">
            <a:noFill/>
          </a:ln>
        </p:spPr>
      </p:pic>
      <p:sp>
        <p:nvSpPr>
          <p:cNvPr id="144" name="Oval 4"/>
          <p:cNvSpPr/>
          <p:nvPr/>
        </p:nvSpPr>
        <p:spPr>
          <a:xfrm>
            <a:off x="3962520" y="3886200"/>
            <a:ext cx="1752480" cy="1295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lobal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3720" y="5257800"/>
            <a:ext cx="1143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324480" y="5334120"/>
            <a:ext cx="114300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3200400"/>
            <a:ext cx="1143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95680" y="4495680"/>
            <a:ext cx="1143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81480" y="1981080"/>
            <a:ext cx="1143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it connect to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direc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 tool student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 about their learn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Assessment of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authentic product for a large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teacher regarding learning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BLO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and Engagemen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get input from people outside you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takes to push student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visit posts if part of a pre-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can interact with each 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ing never finished…always opportunity for deeper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/Teach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look at some student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Civil Rights (2008-2009) Taught by:    L. Jackson &amp; T. Du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1 CL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EXPO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800240" y="3657600"/>
            <a:ext cx="380988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S and Self-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Troy Dud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228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380988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iginal thing I wanted to do was make it a collaborative medium, a place where we [could] all meet and read and writ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veloper of the 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1371600" y="0"/>
            <a:ext cx="1203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ould I keep/chang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working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/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and commenting on other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 Featur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and easy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es you when people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n’t have to keep checking for p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ntrol what gets po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creen inappropriate/inaccurate p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draft posts and not publish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ink to other pages/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Uses for Blo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information/ Archive class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filing cabinet for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other students or people outside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Management and Arti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minutes of 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Blogs Sites (Great for Examp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blogs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g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Videos on Teacher Tube on how/why to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log si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http://tdudrchs.blogspot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  <a:hlinkClick r:id="rId2"/>
              </a:rPr>
              <a:t>http://rchs08.edublogs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14400"/>
            <a:ext cx="1150632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ogs, Wikis ,Podcasts and other powerful web tools for class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Will Richar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Blogs, Wikis, Podcasts, and Other Powerful Web Tools for Classroom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31308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 Wink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791320" y="2344680"/>
            <a:ext cx="2895480" cy="2238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581280" y="4502160"/>
            <a:ext cx="304812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38080" y="2362320"/>
            <a:ext cx="29718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fore you leave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someone and explain a valuable use of blogs in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artner needs to reply with a resource you can use to learn more about incorporating blogs into your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Forget Your Ev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y Dud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Canyon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lk Talk-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classrooms look/feel like when you were a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classroom look/feel lik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rget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 the importance of self-direction for 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blogs can be used as a tool in the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resources to learn how to implement blogs into my i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just an expo…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9360" y="46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94352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gram 3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3420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3962520" y="3886200"/>
            <a:ext cx="1752480" cy="1295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lobal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5792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13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-Direc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22560" y="2395440"/>
            <a:ext cx="3184560" cy="4462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46240" y="5791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ap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6920" y="2895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4280" y="40384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k E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8280" y="297180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029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f-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5792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913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-Direc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62560" y="2819520"/>
            <a:ext cx="2881440" cy="403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010280" y="22860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H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441520"/>
            <a:ext cx="6781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 Important components of motivation to learn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Moss/Brookh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lief in ability to suc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tively participating in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udging own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wn perceptions of success/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ers of the Pa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4343400" cy="3944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62720" y="2971800"/>
            <a:ext cx="281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kill Se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You just needed to do one job really w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Informatio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31120" y="636120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ch classroom best matches these ski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0:12:05Z</dcterms:created>
  <dc:creator>Eagle Schools</dc:creator>
  <dc:description/>
  <dc:language>en-US</dc:language>
  <cp:lastModifiedBy>Eagle Schools</cp:lastModifiedBy>
  <dcterms:modified xsi:type="dcterms:W3CDTF">2010-08-20T14:17:46Z</dcterms:modified>
  <cp:revision>43</cp:revision>
  <dc:subject/>
  <dc:title>21CLEXPO</dc:title>
</cp:coreProperties>
</file>